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3A7-AACE-4185-A63D-A5D7E472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6C37-DBC7-4FA6-AC18-E7274812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0D25-BF0D-447D-AA06-17A8477B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F563-BBB8-4160-BF03-C9D9BDFC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A00E-083A-4D79-96F0-F17495B4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512-8898-4607-9795-BE2C10C5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969D-C5D2-49BA-B376-2E1F5B6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C6F-C8A9-4E5D-AC24-1FB3A82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248D-A708-41CA-AC19-E5228CC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4BEB-A7F5-4A61-8091-C783FB2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29FA-BAF0-47BB-B231-7A1D957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67C0-FE36-4D9E-871C-9C26F52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2CE4-59C9-4EBB-BFA3-63E88D6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0509-92FC-4E50-B0B5-C4CD57F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815-7081-4BE1-820B-FE97A1A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B89D-DA7A-473D-A446-A5506467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47FC-381F-45D5-8B5F-D498668F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A961-1C1F-419E-A7E4-6FB76E4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9354-49BD-4110-9B07-5242705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8765-B4D4-4792-BDA6-F0D9F4C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93CF-3948-4BA2-AE23-1C126B7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5402-BCAD-44B3-9765-88F62D1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08DC-98C1-4CB4-8838-581147E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9872-9C3A-4AC2-BA20-8BC11B1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B51-2534-45F5-804D-D44914C1F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08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C26-ECF6-419A-8B2A-2AB9F8D97C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4680" y="836280"/>
            <a:ext cx="864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ccff"/>
                </a:solidFill>
                <a:latin typeface="Arial Narrow"/>
              </a:rPr>
              <a:t>Utilização de Imagens Monocromáticas com Grãos Sobrepostos na</a:t>
            </a:r>
            <a:br>
              <a:rPr sz="4000"/>
            </a:br>
            <a:r>
              <a:rPr b="1" lang="pt-BR" sz="4000" spc="-1" strike="noStrike">
                <a:solidFill>
                  <a:srgbClr val="ccccff"/>
                </a:solidFill>
                <a:latin typeface="Arial Narrow"/>
              </a:rPr>
              <a:t>Avaliação da Geometria </a:t>
            </a:r>
            <a:br>
              <a:rPr sz="4000"/>
            </a:br>
            <a:r>
              <a:rPr b="1" lang="pt-BR" sz="4000" spc="-1" strike="noStrike">
                <a:solidFill>
                  <a:srgbClr val="ccccff"/>
                </a:solidFill>
                <a:latin typeface="Arial Narrow"/>
              </a:rPr>
              <a:t>dos Meios Poros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0560" y="4221000"/>
            <a:ext cx="871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ura Conci, Inhaúma Neves Ferraz, Ana Cristina Bicharra Gar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velyn de Almeida Vieira*, Rafael Heitor Correia de Melo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partamento de Ciência da Computação, IC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FF – Universidade Federal Flumin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*Bolsitas do laboratório ADDLa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talhamento do proje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fologia Binária X Tons de ci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6553440" cy="27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72EF-A6F5-4693-8CED-C1D6CD75E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162080" y="1600200"/>
            <a:ext cx="2628720" cy="21906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4859280" y="1593720"/>
            <a:ext cx="3384720" cy="2062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162080" y="3943440"/>
            <a:ext cx="2628720" cy="2190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4859280" y="4294080"/>
            <a:ext cx="3384720" cy="13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B0CA-A8BB-44C4-809A-E1A351DC30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857320" cy="23814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3672000" cy="2465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859280" y="3943440"/>
            <a:ext cx="3600360" cy="24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7760-9A70-4E4A-848F-75029B5FA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2857320" cy="2381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3240000" cy="2481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4643280" y="3943440"/>
            <a:ext cx="34578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C1EA-02F2-4B4D-A69F-3FE5D7EBB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estes de valid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162080" y="1600200"/>
            <a:ext cx="2628720" cy="21906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00720" cy="21909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684360" y="3943440"/>
            <a:ext cx="3743280" cy="2687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600720" cy="27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F470-F0D8-40B8-95DF-4956521865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arativo dos méto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nulometria sem reconstru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si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ranulometria com reconstr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condic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5334120" cy="19112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3635280" y="4202280"/>
            <a:ext cx="5280120" cy="18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8D69-DEB9-4BF4-89A4-DECB6A313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emplo de aplicação re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e de imagem de células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210960" y="2286000"/>
            <a:ext cx="885672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6783-7DCD-4F2F-99DD-6673158F5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sta excelente, mesmo quando alguns grãos se tocam e se sobrepõem parcial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do os grãos se sobrepõem totalmente ou em grande parte de sua área, o método começa a apresentar algun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existência de grãos de formatos distintos, deve-se escolher o formato que melhor se assemelha a todos os grãos presentes na imagem para, assim, ter o mínimo de perda de informações possível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3036-1E12-4B85-A02E-172341BDB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má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rigem do probl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s 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talhamento do pro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stes de valid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tivo dos mé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 de aplicação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38D4-D118-47FB-A39F-6CE9BCC5D0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rigem do problem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rgiu da necessidade de se automatizar um processo atualmente manual (através de peneiras) de determinação de frequências de grãos em amost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e problema em processamento de imagens digitais é resolvido pela granulomet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0009-D07C-4BCB-BAAD-7723C40CA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fdef6"/>
                </a:solidFill>
                <a:latin typeface="Arial"/>
              </a:rPr>
              <a:t>Conceitos básicos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e Morfologia Matemátic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o estrutur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s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la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er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6E78-A5D9-47DB-B7F3-B583E2584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mento estruturant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elemento estruturante é um conjunto definido e conhecido (forma e tamanh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comparado ao conjunto desconhecido da imag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1187280" y="4572000"/>
            <a:ext cx="648036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5E2D-31D3-41CC-A235-871201C19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066680" y="2895480"/>
            <a:ext cx="68580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ros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 de imagem e sua erosão por um elemento estruturante 3x3 em cru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116000" y="3732120"/>
            <a:ext cx="6769080" cy="264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878120" y="3048120"/>
                <a:ext cx="5235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Θ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2541600" y="3441600"/>
                <a:ext cx="3908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4825-9FD3-46FA-94C1-32D571A669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066680" y="2895480"/>
            <a:ext cx="69343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lataçã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dilatação por elemento estruturan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 cruz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116000" y="3943440"/>
            <a:ext cx="6840720" cy="246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643040" y="3032280"/>
                <a:ext cx="5707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681280" y="3416400"/>
                <a:ext cx="3630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10BF-BBA8-4340-A2D7-98F535272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ertur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rosão seguida de dilatação em tons de ci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abertura com elemento 5x5 quadrado. (imagem 256 x 242 pix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1403280" y="3816360"/>
            <a:ext cx="633744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6603-48BC-41BA-B9AC-33828781A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talhamento do proje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nulometria pode ser definida como um conjunto de aberturas crescentes de tamanho n=1, 2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s operações de abertura correspondem à passagem da imagem por “peneiras virtuai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a e o tamanho do elemento estruturante da abertura “equivalem” às formas e tamanhos dos buracos desta penei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F037-9B03-4D7C-87F7-C1A0EC274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13:21Z</dcterms:created>
  <dc:creator>Free User</dc:creator>
  <dc:description/>
  <dc:language>en-US</dc:language>
  <cp:lastModifiedBy>Rafael Melo</cp:lastModifiedBy>
  <dcterms:modified xsi:type="dcterms:W3CDTF">2004-05-30T12:55:34Z</dcterms:modified>
  <cp:revision>63</cp:revision>
  <dc:subject/>
  <dc:title>Granulometria: Uma aplicação para contagem e medição de grãos em imagens digitais</dc:title>
</cp:coreProperties>
</file>